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965-2C17-4AC7-ABB4-C9483367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2B9-67C5-412A-9234-A39CB847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E50-2337-46F9-9161-E64BADC3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1E2-7F6A-48A8-B83B-A34F55A7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97F-DBCF-48E2-8143-527DB35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7DE-B506-4090-9957-B3A20B72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C85-CAF5-4E3E-90D8-F7A1244F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84A-B543-460C-872B-7C5EBDC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AE5-4F4D-4B52-9C23-ABF47F7A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5A3-EE06-4EE0-A77B-F96E41A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93B-4C2F-47C6-B34B-AFAEF48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33D-4A93-4496-AC71-4D773D5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24F-5667-484D-9852-D91933D9B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801</a:t>
            </a:r>
            <a:br>
              <a:rPr sz="3800"/>
            </a:b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La fecha es el 3 de noviembre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2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 fútbol en la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10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ocabul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según el vocabulario ind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lanza el balón con __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mbién lanza el balón con 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es un jugador muy bueno porque tiene ___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futb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Cuántos jugadores hay en el equip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¿Cuántos tiempos hay en un partid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ién guarda la porterí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do mete un gol el jugador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el balón entra en la porte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En el estadio, ¿Qué indica el tabler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l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Cuándo queda empatado el ta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los dos equipos tienen el mismo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I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Faculty\AppData\Local\Temp\20141103_140819-1.jpg"/>
          <p:cNvPicPr/>
          <p:nvPr/>
        </p:nvPicPr>
        <p:blipFill>
          <a:blip r:embed="rId1"/>
          <a:stretch/>
        </p:blipFill>
        <p:spPr>
          <a:xfrm>
            <a:off x="4567320" y="76320"/>
            <a:ext cx="4195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7315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b050"/>
                </a:solidFill>
                <a:latin typeface="Arial"/>
              </a:rPr>
              <a:t>V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any appropriate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juegan (al) fútbol, los jugadores no pueden tocar el balón con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marcar un tanto el balón tiene que entrar en la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empieza el segundo ___________, los jugadores vuelven al t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egan (al) futbol en el _______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jugador ________ un tanto cuando ________ un g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tanto no queda ___________, un equipo gana el partido y el otro equipo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DEP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4-11-03T20:19:30Z</cp:lastPrinted>
  <dcterms:modified xsi:type="dcterms:W3CDTF">2014-11-03T21:18:32Z</dcterms:modified>
  <cp:revision>25</cp:revision>
  <dc:subject/>
  <dc:title>Me llamo____________  Clase 7 IL La fecha es el 4 de noviembre del 2010</dc:title>
</cp:coreProperties>
</file>